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13FE-A79E-499E-A6E3-B3F413A349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B94A-98E4-4391-958F-0EE663C2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E09C-DDB4-40E6-BE72-722C920DE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BDBF7-EE11-4F76-BF87-5938411A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36A05-013F-408D-BD38-CD0D7BE6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29FF1-0272-4F94-A16B-4E541970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40645-39EC-4347-BF25-188B2971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9A7BC-6FF6-40F8-B3B4-E2764461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94D61-96B5-4043-8639-42593593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F63B0-880C-452A-8763-94E1C50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67C68-EBA0-470B-9681-D4042244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E2B3A-C744-4EE6-98E0-EA76DCB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0CCF7-77D5-4D16-81FC-3F009A3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BFC8D-F2FC-4261-8E90-80EF2338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DFAE8-246F-4140-AA71-AA584802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1177-515F-4CF6-B466-973071DC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609480" y="38268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radeRepor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witch stat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ads a grade from the user and prints comments according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, catego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numeric grade (0 to 100)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egory = grade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That grade is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609480" y="52236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ateg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erfect score. Well d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ll above average. Excellen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bove average. Nice jo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low average. You should see th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instructor to clarify the material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presented in clas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efaul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t pass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609480" y="52236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witch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atego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perfect score. Well d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ell above average. Excellen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bove average. Nice job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verag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ca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below average. You should see th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instructor to clarify the material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"presented in clas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efaul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ot passing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785240" y="457200"/>
            <a:ext cx="573084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eric grade (0 to 100)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grade is well above average. Excell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371600" y="2154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valuates to one of two expressions based on a boolea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syntax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?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expression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expressio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,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expression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;  if it is false, </a:t>
            </a:r>
            <a:r>
              <a:rPr b="1" i="1" lang="en-US" sz="2800" spc="-1" strike="noStrike">
                <a:solidFill>
                  <a:srgbClr val="008000"/>
                </a:solidFill>
                <a:latin typeface="Courier New"/>
              </a:rPr>
              <a:t>expressio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ntire conditional operator is the value of the selected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 is similar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, except that it is an expression that return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ger = ((num1 &gt; num2) ? num1 : num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great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r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it requires three ope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s 1, the "Dime" is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thing other than 1, then "Dimes" is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62120" y="20574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Your change is " + coun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count == 1) ? "Dime" : "Dime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following logic in a succinct manner using the conditional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615960" y="2332080"/>
            <a:ext cx="8105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val &lt;=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not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following logic in a succinct manner using the conditional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615960" y="2332080"/>
            <a:ext cx="8105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val &lt;=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not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1775520" y="4495680"/>
            <a:ext cx="5057640" cy="11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It is"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val &lt;= 10) ? " not" : ""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 greater than 10.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1371600" y="26877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Conditionals and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can fill in some additional details regarding Java conditional and repeti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with the aid of conditionals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-lis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statement-li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xecuted once initially, and then the </a:t>
            </a:r>
            <a:r>
              <a:rPr b="1" lang="en-US" sz="28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is executed repeatedly until the condition becomes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do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651040" y="2400480"/>
            <a:ext cx="1041480" cy="1295640"/>
            <a:chOff x="2651040" y="2400480"/>
            <a:chExt cx="1041480" cy="1295640"/>
          </a:xfrm>
        </p:grpSpPr>
        <p:sp>
          <p:nvSpPr>
            <p:cNvPr id="166" name="Text Box 4"/>
            <p:cNvSpPr/>
            <p:nvPr/>
          </p:nvSpPr>
          <p:spPr>
            <a:xfrm>
              <a:off x="2651040" y="28569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7" name="AutoShape 5"/>
            <p:cNvCxnSpPr>
              <a:stCxn id="168" idx="1"/>
              <a:endCxn id="169" idx="1"/>
            </p:cNvCxnSpPr>
            <p:nvPr/>
          </p:nvCxnSpPr>
          <p:spPr>
            <a:xfrm flipV="1" rot="10800000">
              <a:off x="3501000" y="2400120"/>
              <a:ext cx="191520" cy="1296000"/>
            </a:xfrm>
            <a:prstGeom prst="bentConnector3">
              <a:avLst>
                <a:gd name="adj1" fmla="val 219962"/>
              </a:avLst>
            </a:prstGeom>
            <a:ln w="31680">
              <a:solidFill>
                <a:srgbClr val="ff0000"/>
              </a:solidFill>
              <a:miter/>
              <a:headEnd len="med" type="triangle" w="lg"/>
            </a:ln>
          </p:spPr>
        </p:cxnSp>
      </p:grpSp>
      <p:grpSp>
        <p:nvGrpSpPr>
          <p:cNvPr id="170" name="Group 6"/>
          <p:cNvGrpSpPr/>
          <p:nvPr/>
        </p:nvGrpSpPr>
        <p:grpSpPr>
          <a:xfrm>
            <a:off x="3502080" y="2576160"/>
            <a:ext cx="1981080" cy="1614960"/>
            <a:chOff x="3502080" y="2576160"/>
            <a:chExt cx="1981080" cy="1614960"/>
          </a:xfrm>
        </p:grpSpPr>
        <p:sp>
          <p:nvSpPr>
            <p:cNvPr id="169" name="AutoShape 7"/>
            <p:cNvSpPr/>
            <p:nvPr/>
          </p:nvSpPr>
          <p:spPr>
            <a:xfrm>
              <a:off x="3502080" y="3200400"/>
              <a:ext cx="1981080" cy="990720"/>
            </a:xfrm>
            <a:prstGeom prst="diamond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3831480" y="337464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condi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evalua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AutoShape 9"/>
            <p:cNvCxnSpPr>
              <a:stCxn id="173" idx="2"/>
              <a:endCxn id="169" idx="0"/>
            </p:cNvCxnSpPr>
            <p:nvPr/>
          </p:nvCxnSpPr>
          <p:spPr>
            <a:xfrm flipH="1">
              <a:off x="4491720" y="2576160"/>
              <a:ext cx="2520" cy="62460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174" name="Group 10"/>
          <p:cNvGrpSpPr/>
          <p:nvPr/>
        </p:nvGrpSpPr>
        <p:grpSpPr>
          <a:xfrm>
            <a:off x="3692520" y="1600200"/>
            <a:ext cx="1600200" cy="990720"/>
            <a:chOff x="3692520" y="1600200"/>
            <a:chExt cx="1600200" cy="990720"/>
          </a:xfrm>
        </p:grpSpPr>
        <p:cxnSp>
          <p:nvCxnSpPr>
            <p:cNvPr id="175" name="AutoShape 11"/>
            <p:cNvCxnSpPr>
              <a:endCxn id="173" idx="0"/>
            </p:cNvCxnSpPr>
            <p:nvPr/>
          </p:nvCxnSpPr>
          <p:spPr>
            <a:xfrm>
              <a:off x="4493880" y="1600200"/>
              <a:ext cx="1080" cy="61056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68" name="Rectangle 12"/>
            <p:cNvSpPr/>
            <p:nvPr/>
          </p:nvSpPr>
          <p:spPr>
            <a:xfrm>
              <a:off x="3692520" y="221004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3804840" y="220932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4"/>
          <p:cNvGrpSpPr/>
          <p:nvPr/>
        </p:nvGrpSpPr>
        <p:grpSpPr>
          <a:xfrm>
            <a:off x="4493880" y="4191120"/>
            <a:ext cx="929160" cy="914760"/>
            <a:chOff x="4493880" y="4191120"/>
            <a:chExt cx="929160" cy="914760"/>
          </a:xfrm>
        </p:grpSpPr>
        <p:cxnSp>
          <p:nvCxnSpPr>
            <p:cNvPr id="177" name="AutoShape 15"/>
            <p:cNvCxnSpPr>
              <a:stCxn id="169" idx="2"/>
            </p:cNvCxnSpPr>
            <p:nvPr/>
          </p:nvCxnSpPr>
          <p:spPr>
            <a:xfrm>
              <a:off x="4493880" y="4191120"/>
              <a:ext cx="1080" cy="9151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78" name="Text Box 16"/>
            <p:cNvSpPr/>
            <p:nvPr/>
          </p:nvSpPr>
          <p:spPr>
            <a:xfrm>
              <a:off x="4695120" y="44190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Footer Placeholder 1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o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executes at leas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verseNumber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211480" y="196416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ln (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count &lt; 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609480" y="8240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Number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do lo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verses the digits of an integer mathematical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, lastDigit, reverse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609480" y="144792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Digit = number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 = (reverse * 10) + lastDig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umber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ber &gt;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number reversed is " + rever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09480" y="144792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stDigit = number %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 = (reverse * 10) + lastDig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= number /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number &gt;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at number reversed is " + rever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2610720" y="1298520"/>
            <a:ext cx="4024080" cy="127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sitive integer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8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number reversed is 6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while and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1086120" y="1371600"/>
            <a:ext cx="3265560" cy="4419720"/>
            <a:chOff x="1086120" y="1371600"/>
            <a:chExt cx="3265560" cy="4419720"/>
          </a:xfrm>
        </p:grpSpPr>
        <p:grpSp>
          <p:nvGrpSpPr>
            <p:cNvPr id="193" name="Group 18"/>
            <p:cNvGrpSpPr/>
            <p:nvPr/>
          </p:nvGrpSpPr>
          <p:grpSpPr>
            <a:xfrm>
              <a:off x="1634760" y="3733560"/>
              <a:ext cx="1600200" cy="1295280"/>
              <a:chOff x="1634760" y="3733560"/>
              <a:chExt cx="1600200" cy="1295280"/>
            </a:xfrm>
          </p:grpSpPr>
          <p:grpSp>
            <p:nvGrpSpPr>
              <p:cNvPr id="194" name="Group 19"/>
              <p:cNvGrpSpPr/>
              <p:nvPr/>
            </p:nvGrpSpPr>
            <p:grpSpPr>
              <a:xfrm>
                <a:off x="1634760" y="4647240"/>
                <a:ext cx="1600200" cy="381600"/>
                <a:chOff x="1634760" y="4647240"/>
                <a:chExt cx="1600200" cy="381600"/>
              </a:xfrm>
            </p:grpSpPr>
            <p:sp>
              <p:nvSpPr>
                <p:cNvPr id="195" name="Rectangle 20"/>
                <p:cNvSpPr/>
                <p:nvPr/>
              </p:nvSpPr>
              <p:spPr>
                <a:xfrm>
                  <a:off x="1634760" y="4647960"/>
                  <a:ext cx="1600200" cy="380880"/>
                </a:xfrm>
                <a:prstGeom prst="rect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1"/>
                <p:cNvSpPr/>
                <p:nvPr/>
              </p:nvSpPr>
              <p:spPr>
                <a:xfrm>
                  <a:off x="1747440" y="4647240"/>
                  <a:ext cx="1377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stateme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97" name="AutoShape 22"/>
              <p:cNvCxnSpPr>
                <a:stCxn id="198" idx="2"/>
                <a:endCxn id="195" idx="0"/>
              </p:cNvCxnSpPr>
              <p:nvPr/>
            </p:nvCxnSpPr>
            <p:spPr>
              <a:xfrm>
                <a:off x="2434680" y="3733560"/>
                <a:ext cx="1080" cy="91476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199" name="Text Box 23"/>
              <p:cNvSpPr/>
              <p:nvPr/>
            </p:nvSpPr>
            <p:spPr>
              <a:xfrm>
                <a:off x="2452320" y="396144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00" name="AutoShape 24"/>
            <p:cNvCxnSpPr>
              <a:stCxn id="195" idx="1"/>
              <a:endCxn id="198" idx="1"/>
            </p:cNvCxnSpPr>
            <p:nvPr/>
          </p:nvCxnSpPr>
          <p:spPr>
            <a:xfrm rot="10800000">
              <a:off x="1405440" y="3199680"/>
              <a:ext cx="229320" cy="1639080"/>
            </a:xfrm>
            <a:prstGeom prst="bentConnector3">
              <a:avLst>
                <a:gd name="adj1" fmla="val 23946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201" name="Group 25"/>
            <p:cNvGrpSpPr/>
            <p:nvPr/>
          </p:nvGrpSpPr>
          <p:grpSpPr>
            <a:xfrm>
              <a:off x="2374200" y="3200400"/>
              <a:ext cx="1977480" cy="2590920"/>
              <a:chOff x="2374200" y="3200400"/>
              <a:chExt cx="1977480" cy="2590920"/>
            </a:xfrm>
          </p:grpSpPr>
          <p:cxnSp>
            <p:nvCxnSpPr>
              <p:cNvPr id="202" name="AutoShape 26"/>
              <p:cNvCxnSpPr>
                <a:stCxn id="198" idx="3"/>
              </p:cNvCxnSpPr>
              <p:nvPr/>
            </p:nvCxnSpPr>
            <p:spPr>
              <a:xfrm flipH="1">
                <a:off x="2374200" y="3200400"/>
                <a:ext cx="1013760" cy="2591280"/>
              </a:xfrm>
              <a:prstGeom prst="bentConnector4">
                <a:avLst>
                  <a:gd name="adj1" fmla="val -22557"/>
                  <a:gd name="adj2" fmla="val 83451"/>
                </a:avLst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03" name="Text Box 27"/>
              <p:cNvSpPr/>
              <p:nvPr/>
            </p:nvSpPr>
            <p:spPr>
              <a:xfrm>
                <a:off x="3623760" y="391104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8"/>
            <p:cNvGrpSpPr/>
            <p:nvPr/>
          </p:nvGrpSpPr>
          <p:grpSpPr>
            <a:xfrm>
              <a:off x="1406160" y="1980720"/>
              <a:ext cx="2057400" cy="1752840"/>
              <a:chOff x="1406160" y="1980720"/>
              <a:chExt cx="2057400" cy="1752840"/>
            </a:xfrm>
          </p:grpSpPr>
          <p:cxnSp>
            <p:nvCxnSpPr>
              <p:cNvPr id="205" name="AutoShape 29"/>
              <p:cNvCxnSpPr>
                <a:endCxn id="198" idx="0"/>
              </p:cNvCxnSpPr>
              <p:nvPr/>
            </p:nvCxnSpPr>
            <p:spPr>
              <a:xfrm>
                <a:off x="2434680" y="1980720"/>
                <a:ext cx="1080" cy="68652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grpSp>
            <p:nvGrpSpPr>
              <p:cNvPr id="206" name="Group 30"/>
              <p:cNvGrpSpPr/>
              <p:nvPr/>
            </p:nvGrpSpPr>
            <p:grpSpPr>
              <a:xfrm>
                <a:off x="1406160" y="2666880"/>
                <a:ext cx="2057400" cy="1066680"/>
                <a:chOff x="1406160" y="2666880"/>
                <a:chExt cx="2057400" cy="1066680"/>
              </a:xfrm>
            </p:grpSpPr>
            <p:sp>
              <p:nvSpPr>
                <p:cNvPr id="198" name="AutoShape 31"/>
                <p:cNvSpPr/>
                <p:nvPr/>
              </p:nvSpPr>
              <p:spPr>
                <a:xfrm>
                  <a:off x="1406160" y="2666880"/>
                  <a:ext cx="2057400" cy="1066680"/>
                </a:xfrm>
                <a:prstGeom prst="diamond">
                  <a:avLst/>
                </a:prstGeom>
                <a:solidFill>
                  <a:srgbClr val="ff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32"/>
                <p:cNvSpPr/>
                <p:nvPr/>
              </p:nvSpPr>
              <p:spPr>
                <a:xfrm>
                  <a:off x="1774080" y="2878920"/>
                  <a:ext cx="1323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condi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evalua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Text Box 33"/>
            <p:cNvSpPr/>
            <p:nvPr/>
          </p:nvSpPr>
          <p:spPr>
            <a:xfrm>
              <a:off x="1296360" y="1371600"/>
              <a:ext cx="23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"/>
                </a:rPr>
                <a:t>The while Lo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36"/>
          <p:cNvGrpSpPr/>
          <p:nvPr/>
        </p:nvGrpSpPr>
        <p:grpSpPr>
          <a:xfrm>
            <a:off x="4711680" y="1371600"/>
            <a:ext cx="2837520" cy="4150800"/>
            <a:chOff x="4711680" y="1371600"/>
            <a:chExt cx="2837520" cy="4150800"/>
          </a:xfrm>
        </p:grpSpPr>
        <p:grpSp>
          <p:nvGrpSpPr>
            <p:cNvPr id="210" name="Group 4"/>
            <p:cNvGrpSpPr/>
            <p:nvPr/>
          </p:nvGrpSpPr>
          <p:grpSpPr>
            <a:xfrm>
              <a:off x="4711680" y="2778480"/>
              <a:ext cx="1030320" cy="1333440"/>
              <a:chOff x="4711680" y="2778480"/>
              <a:chExt cx="1030320" cy="1333440"/>
            </a:xfrm>
          </p:grpSpPr>
          <p:sp>
            <p:nvSpPr>
              <p:cNvPr id="211" name="Text Box 5"/>
              <p:cNvSpPr/>
              <p:nvPr/>
            </p:nvSpPr>
            <p:spPr>
              <a:xfrm>
                <a:off x="4711680" y="3273480"/>
                <a:ext cx="669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tr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" name="AutoShape 6"/>
              <p:cNvCxnSpPr>
                <a:stCxn id="213" idx="1"/>
                <a:endCxn id="214" idx="1"/>
              </p:cNvCxnSpPr>
              <p:nvPr/>
            </p:nvCxnSpPr>
            <p:spPr>
              <a:xfrm flipV="1" rot="10800000">
                <a:off x="5588640" y="2778480"/>
                <a:ext cx="153360" cy="1333800"/>
              </a:xfrm>
              <a:prstGeom prst="bentConnector3">
                <a:avLst>
                  <a:gd name="adj1" fmla="val 249882"/>
                </a:avLst>
              </a:prstGeom>
              <a:ln w="31680">
                <a:solidFill>
                  <a:srgbClr val="ff0000"/>
                </a:solidFill>
                <a:miter/>
                <a:headEnd len="med" type="triangle" w="lg"/>
              </a:ln>
            </p:spPr>
          </p:cxnSp>
        </p:grpSp>
        <p:grpSp>
          <p:nvGrpSpPr>
            <p:cNvPr id="215" name="Group 7"/>
            <p:cNvGrpSpPr/>
            <p:nvPr/>
          </p:nvGrpSpPr>
          <p:grpSpPr>
            <a:xfrm>
              <a:off x="5562360" y="2993760"/>
              <a:ext cx="1981080" cy="1613880"/>
              <a:chOff x="5562360" y="2993760"/>
              <a:chExt cx="1981080" cy="1613880"/>
            </a:xfrm>
          </p:grpSpPr>
          <p:sp>
            <p:nvSpPr>
              <p:cNvPr id="214" name="AutoShape 8"/>
              <p:cNvSpPr/>
              <p:nvPr/>
            </p:nvSpPr>
            <p:spPr>
              <a:xfrm>
                <a:off x="5562360" y="361728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9"/>
              <p:cNvSpPr/>
              <p:nvPr/>
            </p:nvSpPr>
            <p:spPr>
              <a:xfrm>
                <a:off x="5891760" y="379116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7" name="AutoShape 10"/>
              <p:cNvCxnSpPr>
                <a:stCxn id="218" idx="2"/>
                <a:endCxn id="214" idx="0"/>
              </p:cNvCxnSpPr>
              <p:nvPr/>
            </p:nvCxnSpPr>
            <p:spPr>
              <a:xfrm flipH="1">
                <a:off x="6552000" y="2993760"/>
                <a:ext cx="2520" cy="62424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</p:grpSp>
        <p:grpSp>
          <p:nvGrpSpPr>
            <p:cNvPr id="219" name="Group 11"/>
            <p:cNvGrpSpPr/>
            <p:nvPr/>
          </p:nvGrpSpPr>
          <p:grpSpPr>
            <a:xfrm>
              <a:off x="5753160" y="2017080"/>
              <a:ext cx="1600200" cy="990360"/>
              <a:chOff x="5753160" y="2017080"/>
              <a:chExt cx="1600200" cy="990360"/>
            </a:xfrm>
          </p:grpSpPr>
          <p:cxnSp>
            <p:nvCxnSpPr>
              <p:cNvPr id="220" name="AutoShape 12"/>
              <p:cNvCxnSpPr>
                <a:endCxn id="218" idx="0"/>
              </p:cNvCxnSpPr>
              <p:nvPr/>
            </p:nvCxnSpPr>
            <p:spPr>
              <a:xfrm>
                <a:off x="6554520" y="2017080"/>
                <a:ext cx="1080" cy="61020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13" name="Rectangle 13"/>
              <p:cNvSpPr/>
              <p:nvPr/>
            </p:nvSpPr>
            <p:spPr>
              <a:xfrm>
                <a:off x="5753160" y="2626920"/>
                <a:ext cx="1600200" cy="380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14"/>
              <p:cNvSpPr/>
              <p:nvPr/>
            </p:nvSpPr>
            <p:spPr>
              <a:xfrm>
                <a:off x="5865480" y="2625840"/>
                <a:ext cx="137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stat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5"/>
            <p:cNvGrpSpPr/>
            <p:nvPr/>
          </p:nvGrpSpPr>
          <p:grpSpPr>
            <a:xfrm>
              <a:off x="6519600" y="4608000"/>
              <a:ext cx="727920" cy="914400"/>
              <a:chOff x="6519600" y="4608000"/>
              <a:chExt cx="727920" cy="914400"/>
            </a:xfrm>
          </p:grpSpPr>
          <p:cxnSp>
            <p:nvCxnSpPr>
              <p:cNvPr id="222" name="AutoShape 16"/>
              <p:cNvCxnSpPr>
                <a:stCxn id="214" idx="2"/>
              </p:cNvCxnSpPr>
              <p:nvPr/>
            </p:nvCxnSpPr>
            <p:spPr>
              <a:xfrm>
                <a:off x="6549480" y="4608000"/>
                <a:ext cx="1080" cy="914760"/>
              </a:xfrm>
              <a:prstGeom prst="straightConnector1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</p:cxnSp>
          <p:sp>
            <p:nvSpPr>
              <p:cNvPr id="223" name="Text Box 17"/>
              <p:cNvSpPr/>
              <p:nvPr/>
            </p:nvSpPr>
            <p:spPr>
              <a:xfrm>
                <a:off x="6519600" y="4835880"/>
                <a:ext cx="72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 Unicode MS"/>
                  </a:rPr>
                  <a:t>fal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 Box 35"/>
            <p:cNvSpPr/>
            <p:nvPr/>
          </p:nvSpPr>
          <p:spPr>
            <a:xfrm>
              <a:off x="5541120" y="1371600"/>
              <a:ext cx="200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"/>
                </a:rPr>
                <a:t>The do Lo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ooter Placeholder 3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1371600" y="3246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the following 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40600" y="3640680"/>
            <a:ext cx="71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initializa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incr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974880" y="2116800"/>
            <a:ext cx="3039840" cy="1388520"/>
            <a:chOff x="974880" y="2116800"/>
            <a:chExt cx="3039840" cy="1388520"/>
          </a:xfrm>
        </p:grpSpPr>
        <p:sp>
          <p:nvSpPr>
            <p:cNvPr id="234" name="Text Box 9"/>
            <p:cNvSpPr/>
            <p:nvPr/>
          </p:nvSpPr>
          <p:spPr>
            <a:xfrm>
              <a:off x="974880" y="2116800"/>
              <a:ext cx="3039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initi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 executed o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before the loop beg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>
              <a:off x="2469960" y="3124440"/>
              <a:ext cx="15264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1"/>
          <p:cNvGrpSpPr/>
          <p:nvPr/>
        </p:nvGrpSpPr>
        <p:grpSpPr>
          <a:xfrm>
            <a:off x="4359600" y="2116800"/>
            <a:ext cx="3419280" cy="1372680"/>
            <a:chOff x="4359600" y="2116800"/>
            <a:chExt cx="3419280" cy="1372680"/>
          </a:xfrm>
        </p:grpSpPr>
        <p:sp>
          <p:nvSpPr>
            <p:cNvPr id="237" name="Text Box 12"/>
            <p:cNvSpPr/>
            <p:nvPr/>
          </p:nvSpPr>
          <p:spPr>
            <a:xfrm>
              <a:off x="4359600" y="2116800"/>
              <a:ext cx="341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statement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executed until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conditio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 becomes fal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3"/>
            <p:cNvSpPr/>
            <p:nvPr/>
          </p:nvSpPr>
          <p:spPr>
            <a:xfrm flipH="1">
              <a:off x="5365800" y="3108600"/>
              <a:ext cx="304560" cy="380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2"/>
          <p:cNvGrpSpPr/>
          <p:nvPr/>
        </p:nvGrpSpPr>
        <p:grpSpPr>
          <a:xfrm>
            <a:off x="3689280" y="4159080"/>
            <a:ext cx="4586400" cy="1328400"/>
            <a:chOff x="3689280" y="4159080"/>
            <a:chExt cx="4586400" cy="1328400"/>
          </a:xfrm>
        </p:grpSpPr>
        <p:sp>
          <p:nvSpPr>
            <p:cNvPr id="240" name="Text Box 15"/>
            <p:cNvSpPr/>
            <p:nvPr/>
          </p:nvSpPr>
          <p:spPr>
            <a:xfrm>
              <a:off x="3689280" y="4478760"/>
              <a:ext cx="4586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h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Courier New"/>
                </a:rPr>
                <a:t>increment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ortion is executed at the end of each it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6"/>
            <p:cNvSpPr/>
            <p:nvPr/>
          </p:nvSpPr>
          <p:spPr>
            <a:xfrm flipV="1">
              <a:off x="6269040" y="4159080"/>
              <a:ext cx="315720" cy="4730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 of a for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32"/>
          <p:cNvGrpSpPr/>
          <p:nvPr/>
        </p:nvGrpSpPr>
        <p:grpSpPr>
          <a:xfrm>
            <a:off x="3314880" y="3506400"/>
            <a:ext cx="1600200" cy="1065600"/>
            <a:chOff x="3314880" y="3506400"/>
            <a:chExt cx="1600200" cy="1065600"/>
          </a:xfrm>
        </p:grpSpPr>
        <p:sp>
          <p:nvSpPr>
            <p:cNvPr id="245" name="Rectangle 5"/>
            <p:cNvSpPr/>
            <p:nvPr/>
          </p:nvSpPr>
          <p:spPr>
            <a:xfrm>
              <a:off x="3314880" y="41911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3427560" y="4190400"/>
              <a:ext cx="13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7" name="AutoShape 7"/>
            <p:cNvCxnSpPr>
              <a:stCxn id="248" idx="2"/>
              <a:endCxn id="245" idx="0"/>
            </p:cNvCxnSpPr>
            <p:nvPr/>
          </p:nvCxnSpPr>
          <p:spPr>
            <a:xfrm flipH="1">
              <a:off x="4112640" y="3506400"/>
              <a:ext cx="2520" cy="68652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49" name="Text Box 8"/>
            <p:cNvSpPr/>
            <p:nvPr/>
          </p:nvSpPr>
          <p:spPr>
            <a:xfrm>
              <a:off x="4102200" y="3580560"/>
              <a:ext cx="66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0" name="AutoShape 9"/>
          <p:cNvCxnSpPr/>
          <p:nvPr/>
        </p:nvCxnSpPr>
        <p:spPr>
          <a:xfrm rot="10800000">
            <a:off x="3123360" y="3009240"/>
            <a:ext cx="191520" cy="2057760"/>
          </a:xfrm>
          <a:prstGeom prst="bentConnector3">
            <a:avLst>
              <a:gd name="adj1" fmla="val 219962"/>
            </a:avLst>
          </a:prstGeom>
          <a:ln w="31680">
            <a:solidFill>
              <a:srgbClr val="ff0000"/>
            </a:solidFill>
            <a:miter/>
            <a:tailEnd len="med" type="triangle" w="lg"/>
          </a:ln>
        </p:spPr>
      </p:cxnSp>
      <p:grpSp>
        <p:nvGrpSpPr>
          <p:cNvPr id="251" name="Group 31"/>
          <p:cNvGrpSpPr/>
          <p:nvPr/>
        </p:nvGrpSpPr>
        <p:grpSpPr>
          <a:xfrm>
            <a:off x="3124080" y="2195640"/>
            <a:ext cx="1981080" cy="1309320"/>
            <a:chOff x="3124080" y="2195640"/>
            <a:chExt cx="1981080" cy="1309320"/>
          </a:xfrm>
        </p:grpSpPr>
        <p:grpSp>
          <p:nvGrpSpPr>
            <p:cNvPr id="252" name="Group 28"/>
            <p:cNvGrpSpPr/>
            <p:nvPr/>
          </p:nvGrpSpPr>
          <p:grpSpPr>
            <a:xfrm>
              <a:off x="3124080" y="2514600"/>
              <a:ext cx="1981080" cy="990360"/>
              <a:chOff x="3124080" y="2514600"/>
              <a:chExt cx="1981080" cy="990360"/>
            </a:xfrm>
          </p:grpSpPr>
          <p:sp>
            <p:nvSpPr>
              <p:cNvPr id="248" name="AutoShape 12"/>
              <p:cNvSpPr/>
              <p:nvPr/>
            </p:nvSpPr>
            <p:spPr>
              <a:xfrm>
                <a:off x="3124080" y="2514600"/>
                <a:ext cx="1981080" cy="990360"/>
              </a:xfrm>
              <a:prstGeom prst="diamond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3453120" y="268848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condi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evalua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54" name="AutoShape 14"/>
            <p:cNvCxnSpPr>
              <a:stCxn id="255" idx="2"/>
              <a:endCxn id="248" idx="0"/>
            </p:cNvCxnSpPr>
            <p:nvPr/>
          </p:nvCxnSpPr>
          <p:spPr>
            <a:xfrm flipH="1">
              <a:off x="4114440" y="2195640"/>
              <a:ext cx="2160" cy="3196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256" name="Group 34"/>
          <p:cNvGrpSpPr/>
          <p:nvPr/>
        </p:nvGrpSpPr>
        <p:grpSpPr>
          <a:xfrm>
            <a:off x="4077720" y="3009600"/>
            <a:ext cx="2488320" cy="2895840"/>
            <a:chOff x="4077720" y="3009600"/>
            <a:chExt cx="2488320" cy="2895840"/>
          </a:xfrm>
        </p:grpSpPr>
        <p:cxnSp>
          <p:nvCxnSpPr>
            <p:cNvPr id="257" name="AutoShape 16"/>
            <p:cNvCxnSpPr>
              <a:stCxn id="248" idx="3"/>
            </p:cNvCxnSpPr>
            <p:nvPr/>
          </p:nvCxnSpPr>
          <p:spPr>
            <a:xfrm flipH="1">
              <a:off x="4077720" y="3009600"/>
              <a:ext cx="991080" cy="2896200"/>
            </a:xfrm>
            <a:prstGeom prst="bentConnector4">
              <a:avLst>
                <a:gd name="adj1" fmla="val -23074"/>
                <a:gd name="adj2" fmla="val 87444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258" name="Text Box 17"/>
            <p:cNvSpPr/>
            <p:nvPr/>
          </p:nvSpPr>
          <p:spPr>
            <a:xfrm>
              <a:off x="5838120" y="3580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Unicode MS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3"/>
          <p:cNvGrpSpPr/>
          <p:nvPr/>
        </p:nvGrpSpPr>
        <p:grpSpPr>
          <a:xfrm>
            <a:off x="3314880" y="4556160"/>
            <a:ext cx="1600200" cy="701640"/>
            <a:chOff x="3314880" y="4556160"/>
            <a:chExt cx="1600200" cy="701640"/>
          </a:xfrm>
        </p:grpSpPr>
        <p:sp>
          <p:nvSpPr>
            <p:cNvPr id="260" name="Rectangle 20"/>
            <p:cNvSpPr/>
            <p:nvPr/>
          </p:nvSpPr>
          <p:spPr>
            <a:xfrm>
              <a:off x="3314880" y="4876920"/>
              <a:ext cx="1600200" cy="380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1"/>
            <p:cNvSpPr/>
            <p:nvPr/>
          </p:nvSpPr>
          <p:spPr>
            <a:xfrm>
              <a:off x="3432600" y="4876200"/>
              <a:ext cx="136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incr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2" name="AutoShape 22"/>
            <p:cNvCxnSpPr>
              <a:stCxn id="246" idx="2"/>
              <a:endCxn id="261" idx="0"/>
            </p:cNvCxnSpPr>
            <p:nvPr/>
          </p:nvCxnSpPr>
          <p:spPr>
            <a:xfrm>
              <a:off x="4115520" y="4556160"/>
              <a:ext cx="1080" cy="31968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grpSp>
        <p:nvGrpSpPr>
          <p:cNvPr id="263" name="Group 30"/>
          <p:cNvGrpSpPr/>
          <p:nvPr/>
        </p:nvGrpSpPr>
        <p:grpSpPr>
          <a:xfrm>
            <a:off x="3300120" y="1295280"/>
            <a:ext cx="1631520" cy="914400"/>
            <a:chOff x="3300120" y="1295280"/>
            <a:chExt cx="1631520" cy="914400"/>
          </a:xfrm>
        </p:grpSpPr>
        <p:grpSp>
          <p:nvGrpSpPr>
            <p:cNvPr id="264" name="Group 29"/>
            <p:cNvGrpSpPr/>
            <p:nvPr/>
          </p:nvGrpSpPr>
          <p:grpSpPr>
            <a:xfrm>
              <a:off x="3300120" y="1828080"/>
              <a:ext cx="1631520" cy="381600"/>
              <a:chOff x="3300120" y="1828080"/>
              <a:chExt cx="1631520" cy="381600"/>
            </a:xfrm>
          </p:grpSpPr>
          <p:sp>
            <p:nvSpPr>
              <p:cNvPr id="265" name="Rectangle 25"/>
              <p:cNvSpPr/>
              <p:nvPr/>
            </p:nvSpPr>
            <p:spPr>
              <a:xfrm>
                <a:off x="3314880" y="1828800"/>
                <a:ext cx="1600200" cy="3808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26"/>
              <p:cNvSpPr/>
              <p:nvPr/>
            </p:nvSpPr>
            <p:spPr>
              <a:xfrm>
                <a:off x="3300120" y="1828080"/>
                <a:ext cx="16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Unicode MS"/>
                  </a:rPr>
                  <a:t>initializ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6" name="AutoShape 27"/>
            <p:cNvCxnSpPr>
              <a:endCxn id="255" idx="0"/>
            </p:cNvCxnSpPr>
            <p:nvPr/>
          </p:nvCxnSpPr>
          <p:spPr>
            <a:xfrm>
              <a:off x="4114800" y="1295280"/>
              <a:ext cx="1080" cy="534240"/>
            </a:xfrm>
            <a:prstGeom prst="straightConnector1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267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371600" y="15573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functionally equivalent to the follow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487960" y="2559240"/>
            <a:ext cx="365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initializa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(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008000"/>
                </a:solidFill>
                <a:latin typeface="Courier New"/>
              </a:rPr>
              <a:t>increme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count=1; count &lt;= 5; count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ization section can be used to declare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, the condition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tested prior to executing the loop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the body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will execute zero or mor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ment section can perform any calcu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=100; num &gt; 0; num -=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nu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is well suited for executing statements a specific number of times that can be calculated or determined in ad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Multiple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rs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Multipl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for lo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i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multiples of a user-specified number up to a user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ecified lim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_LINE = 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limit, mult, 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 positive valu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upper limi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multiples of " + value + " between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 and " + limit + " (inclusive)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ult = value; mult &lt;= limit; mult +=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mult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 specific number of values per line of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% PER_LINE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609480" y="105264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an upper limi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mit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multiples of " + value + " between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+ " and " + limit + " (inclusive) a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ult = value; mult &lt;= limit; mult += 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mult + "\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a specific number of values per line of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count % PER_LINE ==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1099800" y="838080"/>
            <a:ext cx="6828120" cy="4686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positive valu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upper limit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ultiples of 7 between 7 and 400 (inclusive)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4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5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8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1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2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3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4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5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6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7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8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9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0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1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2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3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4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5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6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7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8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29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0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1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29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36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43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57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64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78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8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2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3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a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for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triangle shape using asterisk (star)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ROWS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 = 1; row &lt;= MAX_ROWS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 = 1; star &lt;= row; sta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a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nested for lo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triangle shape using asterisk (star) charac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ROWS =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w = 1; row &lt;= MAX_ROWS; row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 = 1; star &lt;= row; star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*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3436200" y="517680"/>
            <a:ext cx="1585800" cy="3226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de fragment that rolls a die 100 times and counts the number of times a 3 comes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code fragment that rolls a die 100 times and counts the number of times a 3 comes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1404360" y="2565360"/>
            <a:ext cx="639864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die = new Di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ount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num=1; num &lt;= 100; num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die.roll() =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tem.out.println (c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nother way to decide which statement to execut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evaluates an expression, then attempts to match the result to one of several possi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se contains a value and a list of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 of control transfers to statement associated with the first case value that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or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xpression in the header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is 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itialization is left out, no initialization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ndition is left out, it is always considered to be true, and therefore creates an infinit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increment is left out, no increment operation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-each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n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p simplifies the repetitive processing of items in an it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uppo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k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Book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loop will print each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Book myBook : book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myBook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version of a for loop is often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-ea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-each Lo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-each loop can be used on any object that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liminates the need to retrieve an iterator and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as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will be helpful when processing arrays, which are discussed in 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304920" y="10666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or-each loop that prints 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uden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304920" y="106668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or-each loop that prints 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List&lt;Studen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1511640" y="2870280"/>
            <a:ext cx="6032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Student student : ro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ude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>
            <a:off x="1371600" y="37893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Techn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s and loops enhance our ability to generate interesting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sey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ullseye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e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esPanel.ja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ullsey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ullsey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5"/>
          <p:cNvGrpSpPr/>
          <p:nvPr/>
        </p:nvGrpSpPr>
        <p:grpSpPr>
          <a:xfrm>
            <a:off x="2286000" y="380880"/>
            <a:ext cx="4419720" cy="4648320"/>
            <a:chOff x="2286000" y="380880"/>
            <a:chExt cx="4419720" cy="4648320"/>
          </a:xfrm>
        </p:grpSpPr>
        <p:sp>
          <p:nvSpPr>
            <p:cNvPr id="325" name="TextBox 5"/>
            <p:cNvSpPr/>
            <p:nvPr/>
          </p:nvSpPr>
          <p:spPr>
            <a:xfrm>
              <a:off x="2286000" y="380880"/>
              <a:ext cx="4419720" cy="4648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Picture 4" descr="Bullseye.png"/>
            <p:cNvPicPr/>
            <p:nvPr/>
          </p:nvPicPr>
          <p:blipFill>
            <a:blip r:embed="rId1"/>
            <a:stretch/>
          </p:blipFill>
          <p:spPr>
            <a:xfrm>
              <a:off x="2590560" y="685440"/>
              <a:ext cx="3810240" cy="408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09480" y="60948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ullseye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nditionals and loops to guide draw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WIDTH = 300, NUM_RINGS = 5, RING_WIDTH = 2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bullseye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llseye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3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l syntax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65600" y="2055960"/>
            <a:ext cx="3381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express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value1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-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value2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statement-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value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tatement-lis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2"/>
          <p:cNvGrpSpPr/>
          <p:nvPr/>
        </p:nvGrpSpPr>
        <p:grpSpPr>
          <a:xfrm>
            <a:off x="1008720" y="2039400"/>
            <a:ext cx="1810800" cy="1923480"/>
            <a:chOff x="1008720" y="2039400"/>
            <a:chExt cx="1810800" cy="1923480"/>
          </a:xfrm>
        </p:grpSpPr>
        <p:sp>
          <p:nvSpPr>
            <p:cNvPr id="107" name="Text Box 6"/>
            <p:cNvSpPr/>
            <p:nvPr/>
          </p:nvSpPr>
          <p:spPr>
            <a:xfrm>
              <a:off x="1008720" y="2039400"/>
              <a:ext cx="12978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eserv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2057400" y="2819520"/>
              <a:ext cx="76212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V="1">
              <a:off x="2057400" y="2514240"/>
              <a:ext cx="68580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6543360" y="3733560"/>
            <a:ext cx="2323440" cy="1770120"/>
            <a:chOff x="6543360" y="3733560"/>
            <a:chExt cx="2323440" cy="1770120"/>
          </a:xfrm>
        </p:grpSpPr>
        <p:sp>
          <p:nvSpPr>
            <p:cNvPr id="111" name="Text Box 10"/>
            <p:cNvSpPr/>
            <p:nvPr/>
          </p:nvSpPr>
          <p:spPr>
            <a:xfrm>
              <a:off x="6543360" y="4190040"/>
              <a:ext cx="2323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If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expres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tches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alue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ontrol jum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to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AutoShape 11"/>
            <p:cNvCxnSpPr>
              <a:stCxn id="111" idx="0"/>
            </p:cNvCxnSpPr>
            <p:nvPr/>
          </p:nvCxnSpPr>
          <p:spPr>
            <a:xfrm flipV="1" rot="16200000">
              <a:off x="6796440" y="3489480"/>
              <a:ext cx="457920" cy="9453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</p:grpSp>
      <p:sp>
        <p:nvSpPr>
          <p:cNvPr id="113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609480" y="76320"/>
            <a:ext cx="7910640" cy="66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ints a bullseye targ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0, y = 0, diameter = MAX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 count &lt; NUM_RINGS; count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age.getColor() == Color.black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lternate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-= (2 * RING_WID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= RING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+= RING_WIDT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raw the red bullseye in the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x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609480" y="6094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loops to 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Boxe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7"/>
          <p:cNvGrpSpPr/>
          <p:nvPr/>
        </p:nvGrpSpPr>
        <p:grpSpPr>
          <a:xfrm>
            <a:off x="1905120" y="457200"/>
            <a:ext cx="5486400" cy="4572000"/>
            <a:chOff x="1905120" y="457200"/>
            <a:chExt cx="5486400" cy="4572000"/>
          </a:xfrm>
        </p:grpSpPr>
        <p:sp>
          <p:nvSpPr>
            <p:cNvPr id="336" name="TextBox 5"/>
            <p:cNvSpPr/>
            <p:nvPr/>
          </p:nvSpPr>
          <p:spPr>
            <a:xfrm>
              <a:off x="1905120" y="457200"/>
              <a:ext cx="5486400" cy="457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6" descr="Boxes1.png"/>
            <p:cNvPicPr/>
            <p:nvPr/>
          </p:nvPicPr>
          <p:blipFill>
            <a:blip r:embed="rId1"/>
            <a:stretch/>
          </p:blipFill>
          <p:spPr>
            <a:xfrm>
              <a:off x="2133720" y="706320"/>
              <a:ext cx="5054760" cy="408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oxes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conditionals and loops to guide draw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Rand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_BOXES = 50, THICKNESS = 5, MAX_SIDE = 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_X = 350, MAX_Y = 2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drawing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es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400, 3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60948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aints boxes of random width and height in a random lo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arrow or short boxes are highlighted with a fill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, width, he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 count &lt; NUM_BOXES; count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generator.nextInt(MAX_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generator.nextInt(MAX_Y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generator.nextInt(MAX_SIDE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= generator.nextInt(MAX_SIDE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609480" y="838080"/>
            <a:ext cx="7910640" cy="475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idth &lt;= THICKNESS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narrow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height &lt;= THICKNESS)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eck for shor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Rect (x, y, width, heigh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237040" y="1500120"/>
            <a:ext cx="5635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ing with Loops and Condit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1371600" y="4359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log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indow that appears on top of any currently active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be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 a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user to en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log box usually has a specific, solitary purpose, and the user interaction with it is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provides methods that simplify the creation of some types of 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EvenOdd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dialog boxes for choosing colors and files are covered in 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609480" y="90000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venOdd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JOptionPane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OptionPan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venO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if the value input by the user is even or od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ses multiple dialog boxes for user intera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umStr,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, agai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eak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as the last statement in each case's statement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causes control to transfer to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not used, the flow of control will continue into the nex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is may be appropriate, but often we want to execute only the statements associated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609480" y="14446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Str = JOptionPane.showInputDialog ("Enter an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Integer.parseInt(numS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That number is " + ((num%2 == 0) ? "even" : "od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.showMessage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ain = JOptionPane.showConfirm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"Do Another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ain == JOptionPane.YES_OP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09480" y="14446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Str = JOptionPane.showInputDialog ("Enter an integer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Integer.parseInt(numS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"That number is " + ((num%2 == 0) ? "even" : "od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OptionPane.showMessage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resul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ain = JOptionPane.showConfirmDialog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"Do Another?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whi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gain == JOptionPane.YES_OP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2362320" y="685800"/>
            <a:ext cx="4876560" cy="2362320"/>
            <a:chOff x="2362320" y="685800"/>
            <a:chExt cx="4876560" cy="2362320"/>
          </a:xfrm>
        </p:grpSpPr>
        <p:sp>
          <p:nvSpPr>
            <p:cNvPr id="361" name="TextBox 5"/>
            <p:cNvSpPr/>
            <p:nvPr/>
          </p:nvSpPr>
          <p:spPr>
            <a:xfrm>
              <a:off x="2362320" y="685800"/>
              <a:ext cx="487656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Picture 6" descr="EvenOdd1.png"/>
            <p:cNvPicPr/>
            <p:nvPr/>
          </p:nvPicPr>
          <p:blipFill>
            <a:blip r:embed="rId1"/>
            <a:stretch/>
          </p:blipFill>
          <p:spPr>
            <a:xfrm>
              <a:off x="2545560" y="909360"/>
              <a:ext cx="4510080" cy="191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Group 16"/>
          <p:cNvGrpSpPr/>
          <p:nvPr/>
        </p:nvGrpSpPr>
        <p:grpSpPr>
          <a:xfrm>
            <a:off x="533520" y="3505320"/>
            <a:ext cx="3504960" cy="2286000"/>
            <a:chOff x="533520" y="3505320"/>
            <a:chExt cx="3504960" cy="2286000"/>
          </a:xfrm>
        </p:grpSpPr>
        <p:sp>
          <p:nvSpPr>
            <p:cNvPr id="364" name="TextBox 5"/>
            <p:cNvSpPr/>
            <p:nvPr/>
          </p:nvSpPr>
          <p:spPr>
            <a:xfrm>
              <a:off x="533520" y="3505320"/>
              <a:ext cx="3504960" cy="2286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5" name="Picture 14" descr="EvenOdd2.png"/>
            <p:cNvPicPr/>
            <p:nvPr/>
          </p:nvPicPr>
          <p:blipFill>
            <a:blip r:embed="rId2"/>
            <a:stretch/>
          </p:blipFill>
          <p:spPr>
            <a:xfrm>
              <a:off x="768240" y="3706920"/>
              <a:ext cx="3035160" cy="188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6" name="Group 18"/>
          <p:cNvGrpSpPr/>
          <p:nvPr/>
        </p:nvGrpSpPr>
        <p:grpSpPr>
          <a:xfrm>
            <a:off x="4419720" y="3429000"/>
            <a:ext cx="4190760" cy="2362320"/>
            <a:chOff x="4419720" y="3429000"/>
            <a:chExt cx="4190760" cy="2362320"/>
          </a:xfrm>
        </p:grpSpPr>
        <p:sp>
          <p:nvSpPr>
            <p:cNvPr id="367" name="TextBox 5"/>
            <p:cNvSpPr/>
            <p:nvPr/>
          </p:nvSpPr>
          <p:spPr>
            <a:xfrm>
              <a:off x="4419720" y="3429000"/>
              <a:ext cx="419076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Picture 17" descr="EvenOdd3.png"/>
            <p:cNvPicPr/>
            <p:nvPr/>
          </p:nvPicPr>
          <p:blipFill>
            <a:blip r:embed="rId3"/>
            <a:stretch/>
          </p:blipFill>
          <p:spPr>
            <a:xfrm>
              <a:off x="4623480" y="3616560"/>
              <a:ext cx="3782880" cy="1986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with the aid of conditionals and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73600" y="1903320"/>
            <a:ext cx="246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o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A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B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se 'C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ount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a switch stat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can have an option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case has no associated value and simply uses the reserved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efault case is present, control will transfer to it if no other case value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no default case, and no other value matches, control falls through to the statement after th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witch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e of a switch expression must be integers, characters, or enumerated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Java 7, a switch can also be used with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use a switch with floating point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licit boolean condition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is 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not perform relational checks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Repor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4:53Z</dcterms:created>
  <dc:creator>usnidem</dc:creator>
  <dc:description/>
  <dc:language>en-US</dc:language>
  <cp:lastModifiedBy>Noreen Elliott</cp:lastModifiedBy>
  <dcterms:modified xsi:type="dcterms:W3CDTF">2013-08-12T20:18:15Z</dcterms:modified>
  <cp:revision>22</cp:revision>
  <dc:subject/>
  <dc:title>Chapter #, Title</dc:title>
</cp:coreProperties>
</file>